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BF5F-E73F-4894-B8C2-0C8D2F8E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17C-D8FE-498E-80CA-80135A0C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09E-BB17-4F75-8826-D2392072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D28-7ADB-46FC-90E6-8F7F3436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149E-003E-4BDD-9472-5E113F20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7E27-3C01-4D3E-B1B0-DEFE0133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A39B-FE53-45EA-896F-E5F593C4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57CB-0012-43AB-99A0-8F14B089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2F34-A84E-49FC-BFD3-E29F538F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A643-4B84-429D-BCFD-99EF6E45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D4E4-771F-4611-8BB9-A96E6312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86C-4579-4281-8C5E-A94EEE15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FFD2-26E2-4A2A-A8A2-B1AC5B6C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FB3F-C31E-4036-8DF9-60CC6289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A7B7-EE5F-48D4-A3E8-6F376A16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CA2A-B5EE-4358-9F00-2068B3CD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742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49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FAAB-8223-4CCB-92FB-0F671991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6F1-6983-4A61-A5F7-7EF76800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E11-76C2-4EEE-8001-A06F7CC2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47F3-A4E2-482A-9DF2-58B366E5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3960" y="1295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B2A-2E81-4B89-98DB-86163461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225-6EA3-4D1E-BB7A-99F7F1F7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9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DB49-16E2-42E5-ABAE-5433F0C2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742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9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B26-07A8-44B2-A56F-7511DD61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9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22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1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BD41-4892-4341-B593-AF0333DE0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95280" y="1701720"/>
            <a:ext cx="118080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2D8E-56C3-4F96-8957-EE94529FD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us.ucf.edu/shornik/acg5405/Documents/5405_Course Agreement.doc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us.ucf.edu/shornik/acg5405/Documents/Team Charter.doc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hornik@bus.ucf.edu" TargetMode="External"/><Relationship Id="rId3" Type="http://schemas.openxmlformats.org/officeDocument/2006/relationships/hyperlink" Target="http://acg5405.wikispaces.com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kipwhite.com/" TargetMode="External"/><Relationship Id="rId3" Type="http://schemas.openxmlformats.org/officeDocument/2006/relationships/hyperlink" Target="http://www.gliffy.com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980720"/>
            <a:ext cx="60958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G 540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ccounting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er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rs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you with the basic background and tools that will allow you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acilitate and/or ass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evolution of contemporary accounting inform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quires a solid understanding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ective systems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ed and develo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compon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n effecti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tity-wide internal control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hich efficien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abase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 to impro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ing information f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the contemporary issues involved in provid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urance services for systems and database reli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Understanding of XB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ily, to become consumers of information related to new techn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oup Project Pro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’s &amp; Group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o/wha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group member will evaluate every other group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in term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 to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deal constructively with confl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articipation in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for assigned task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 of initiative or leadership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valuations (Wh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-100 poin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individual evaluation is a D or less (&lt; 67) your overall project score will be 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Invitation or Click “Join”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f you have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-mail for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address comes from e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(nice but no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your e-community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material to any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dit material already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Delete material posted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new page with ne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Pages, Podcasts, Video, Aud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DFD sections of 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cours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May 15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H Problem 4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derful Stuff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do this in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Updating Wikispace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Things to Keep You B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hinking about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your team members will be spending a lot of time together so choose wis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schedules of other prospective team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team c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urse documents of 5405 Web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May 2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concepts of 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open the door. You enter by yourself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ld Chinese prover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the concepts (Group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have to learn to do, we learn by doing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teven 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shornik@bus.ucf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Webpage: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http://acg5405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day – Thursday 9:00-10:00; Tuesday and Thursday 5:00-6:00 and by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(Yahoo): sh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use Meebo Widget in Wiki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Information Systems 7th ed., by  Gelinas and D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ountants Guide to XBRL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, by Clinton 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ly at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:www.skipwhi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Glif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ount – Web Based Model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 1 (G&amp;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Exam (XBR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ssignment (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4.00 100-9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- 3.75 92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+ 3.25 89-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 3.00 85-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- 2.75 82-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+ 2.25 79-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 2.00 75-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- 1.75 72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+ 1.25 69-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 1.00 65-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- 0.75 62-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 0.00 &lt;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graded Assignments (UGH’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permitting we will do these in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Ask Questions,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/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Class, Prepared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p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39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/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6:18:38Z</dcterms:created>
  <dc:creator>shornik</dc:creator>
  <dc:description/>
  <dc:language>en-US</dc:language>
  <cp:lastModifiedBy> </cp:lastModifiedBy>
  <dcterms:modified xsi:type="dcterms:W3CDTF">2008-05-10T13:05:38Z</dcterms:modified>
  <cp:revision>53</cp:revision>
  <dc:subject/>
  <dc:title>ACG 5405 Intro</dc:title>
</cp:coreProperties>
</file>